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2F5-DCD4-481E-9A8F-A5AEFCDB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278-E29D-42AC-A549-97153A50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957-224B-40FC-B15A-5E0509A0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F15-3E2D-4224-BF6A-F8A607D2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7ACAB-EFFF-4045-ACC9-B00516B1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246F-5700-4244-9EF7-5D2FFE51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18F29-F50D-42C6-9CED-9648C578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57ECE-F3DF-424E-884A-657B35A7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4B830-27FE-42BD-A03D-B1B2E6F8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A1D1B-A89D-495E-9211-731E673B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639BA-EFEC-40A6-BF02-542B8FC8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F89-7AAA-4A02-86B3-0330BA77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FE26A-2DAF-4A91-9169-8FE5AC42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5CA80-37A5-43DD-B760-9EBBFC11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86AC7-AD49-423F-BDBD-32ED3F1D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7B2BC-3BE9-4A25-9DBF-27288C6A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7F63E-DAB7-4235-8040-126E84C4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321-DA95-4222-B466-071DE15D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2AC-367C-4D00-B090-9EA1E988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32C-6017-4434-BAA4-E560B14E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4FB-BDBB-4E7E-889F-5CA8F15F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CFE-4571-40EF-A963-84ED660C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F6C-E60A-40C5-88F9-3AB4B4F5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436-C113-49A7-83B9-41026120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E1B8-1CE3-4D03-B2D9-52C68DCD7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5A2F-22AE-4232-9283-5EE11F892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Haley Tall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25146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gar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moderno y gra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5120" y="3505320"/>
            <a:ext cx="40384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pe you enjoy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grande y luj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44956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bella y mod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35812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grande y fabul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33720" y="3276720"/>
            <a:ext cx="4724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grande, lujoso, y nu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48006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ῆ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moderno y boni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40384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bonito, bello, y fabul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38102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pat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grande y estupen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33720" y="3581280"/>
            <a:ext cx="3352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Jard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jard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bello y boni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3434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2:01:34Z</dcterms:created>
  <dc:creator>tallmanhal</dc:creator>
  <dc:description/>
  <dc:language>en-US</dc:language>
  <cp:lastModifiedBy>tallmanhal</cp:lastModifiedBy>
  <dcterms:modified xsi:type="dcterms:W3CDTF">2013-04-03T17:38:10Z</dcterms:modified>
  <cp:revision>7</cp:revision>
  <dc:subject/>
  <dc:title>La Casa</dc:title>
</cp:coreProperties>
</file>